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B91E-75F9-434D-AF4A-E34B90416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0016-2697-4BFD-9459-C5B62EE5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853C20-750D-438E-B690-05A61AB2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E87410-3DB5-4CF1-B39B-CB5D6A5F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DA2A16-03F6-45B3-8A9A-035FF25A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890D8B-3EF5-41CB-AAF8-4FEF60C0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9C1876-505D-42D9-BB7C-80C51A8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537D27-A5DD-43EA-83C4-679572BA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CBCADF-8404-47EA-90F3-CBC071EE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54C771-82FB-4805-8FAB-A26E59BE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966332-9A14-4991-8A0B-A1D12399CF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97C60-3AE7-4CCB-89C4-2534B97187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DDA2-5E6F-426A-A5B2-FA112B15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7D5FB-E9C7-41EC-904F-53CECA80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E88F4-8322-4B16-9CD8-39ED0EA1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29586-88E0-4885-A591-4B02EDD3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2C7C7-E6A3-41A0-9D11-A95C74B0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E8E5D-4F11-48E7-87FC-2F27B386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58BA4-EAE4-4C5B-9433-4F4C8C97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CB81-8959-4C98-B262-62B0037C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80243-7789-475E-BE9A-936D13CB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8EEC7-0713-4AF7-8AC4-3DF9EC07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F4172-3DFD-4CB5-90C5-D72CC1B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01ED-58CC-412A-89B7-E22DBB9968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C726-F5DB-4598-9706-6EA924C34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085F8B-ADC1-460E-BFAE-815F34A3BB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2E0B5A-35EE-444A-89C2-8CD8BEE2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AC7404-9421-4229-A51B-C7904B16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17A1C5-68DF-4DD7-BFEF-2FDAD901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E8C6C9-D26F-464A-A696-CAC18213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EC00B-9620-4267-B397-8095912C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22ABC-F447-413D-A56E-06CABDD2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72E7F-864D-4F8C-BC7E-E8693661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12B54-1542-4329-BA8C-436948F6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B00F0-BF12-46F8-9E9A-F20BB2F5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7AC4C-0046-4DFC-9C21-8176A636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71B6E-CEA2-459F-B335-45AD55D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F2219C-F54F-4F71-B340-C62A86AED5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4084A-C6EC-475A-A1DA-52174E6C1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E2521-5E21-4365-B8AF-5846F798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DCA49-F4A1-4AE9-8F35-795CACDA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E5532-FC7A-4C94-A01A-DFA613F0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2E812-DEE2-4E8E-86AF-204C9048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43550-6D02-471C-AF33-56232F36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1E68E-C1CE-4FF7-A0B1-EA26105F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569FD-8C3B-4369-B301-09BC5D6F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36AEF-95FE-415F-80B6-6496F179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FB3C1-AD7D-4F0F-9109-B0352B9F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85E9F-0A4D-41BC-BD57-1B12E509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02CF2-FD19-4C82-A639-DE06EA38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58811-FA5D-4EFB-AAE1-57BC9FCDA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CD945-25E6-432B-9257-697A08D03B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757EA-78A9-48C6-8F5F-47E09A63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70482-03C3-4876-9603-806E1F7F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3F889-15FB-484C-8E14-338D8050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6D445-D8D2-467A-9B0F-2A99E423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CF08B-2374-44C1-BA27-396D8ACF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52C2B-521E-4920-8E37-99B71D68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220C3-3444-4602-9CF4-780F8580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64E90-65FA-4DF1-AC56-2A4020BA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F1797-D143-44B3-BDDF-F8A01E24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D5DF8-A0EA-4E41-A3BC-06DC69A5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66946-DEF8-4688-886E-F43F6AB1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18372-5A3F-4965-B202-1400157D70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4E66C-A819-4037-9700-C59F1152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3696A-B14D-4376-88AF-236A880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5552B-D280-4BD4-BE57-0566FB6D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D4E8D-69D4-4CFC-BD84-A8970513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BC443-E19F-4665-99ED-E273C110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8C44C-4D20-44E5-9381-0C8036C1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81C0D-E41A-4147-B3A4-B61F7790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2822A-1B75-4B9C-B215-3A07D3D4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7DF31-72A7-42B3-8B3F-FA05669A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ED6DE-EAC1-42E6-B848-438E6AA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426B4-0756-4500-BD36-280FF72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2B304-AF0B-412B-A8D2-60F37610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ADF20-041E-4DF8-AD7E-F9AEFE02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578D7-F708-432C-A659-84971D10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F42E1-EC6F-4E4E-B75D-0BDCDD99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F1338-46F6-4660-9213-6B7BF9B8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82E53-3EC2-4E61-9AAB-1A026586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ECF4-EE5F-4C8F-998E-88B6AAD2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C9015-AD97-4FA6-9D2D-938A4DEC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7AA05-C30B-4A84-BC3B-5DE9B1FC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C41BB-BB41-4832-93A5-EAF371D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D1F0A-16DE-4DC4-95D2-C86A23A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7AB46-9D38-4043-9DF2-91E092F4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B3681-6EB1-44BD-BF8B-8E2E148D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E204F-55D6-4903-A82B-9ED425B1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14619-8670-448C-98D6-828289D6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DF36F-0043-40DA-84CC-0A224C0D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DAB0E-38FA-421B-BCC3-5DD2A0DE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378C4-0C41-4A0F-8D6C-980FB4C7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80FC5-90E1-4B6B-B74D-D22F5B8B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3D4CD-2E1A-432E-8E88-1EB97DE9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FFBE1-277E-4E6D-A21E-C378E953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5FD36-AB8B-45C9-A17A-EB053DC3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14DF7-7AA7-4353-938C-189B137D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EEAA6-36D4-4848-9C1D-564F98A7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28728-5F1A-4A8A-8311-EF5ACD1F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974E7-BC11-4D52-80B3-1752A7D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CB33F-8E20-4443-B291-375F3C8E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66570-9722-445D-B99D-2C124FBB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2FA5F-8177-482D-AD50-0151145F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ACBB6-8D20-4AD0-9812-92D53F33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926F6-2955-41EC-8EE8-FDBC4B55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60897-4A07-447F-81DC-EEBCA48F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9F5EE-E0CE-45C7-AD89-AF02AF03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EE581-EB42-456A-ACF9-499678BA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71076-C670-4829-9DF2-309B7BE2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936CB-863F-4061-BB77-6856F34D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7918-2C33-43F9-BF20-2983B8D0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3BCDC-C593-4961-94D1-815670DA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56CED-1B69-41E2-9638-DFBBB12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32E82-BF94-4FF0-AF87-0A6E09FD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08EB4-C7FE-4327-BE08-F4BD24D2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EA43D-2BB0-4402-A8EF-05DB3CAF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67050-03A9-4662-9883-BAB4B583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4EF62-E7C0-4799-B4BD-80D17B62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26B95-0C84-4A8A-914F-9013D7B9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58AB7-D813-4E64-85F0-319E9E5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35039-1ACD-41BC-A27F-508AF225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4BDC0-BE70-4AF6-B6D8-7274CAE8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19C37-759D-490B-80F8-92D10B7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7D474-5289-4C0C-A1D7-F64F0358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7EDDD-3EF4-41F0-A1B0-8653983A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C583D-4644-4D4C-AE61-12E3C50E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2B47C-5000-4BD5-94A1-D46274B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68199-3615-4365-BEA4-5F7D6B64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26E39-5F94-4E12-AFA8-DBE0DC30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D9D2C-527E-4C38-9ABB-97A136B3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BC173-2689-4CEE-909E-BFF01E61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624AF-E9A2-480F-93D8-143E1C83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46155-C570-4AE9-9A50-14FC9F2D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66868-DCB3-4C07-B1FB-22FBBED6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8D05B-700B-47CF-81C5-7AB0CD9F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A2052-8A4A-4E69-BAA2-25A4F829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BD345-CFAF-46BE-9FC8-AE7AFFB2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C6643-46D5-41C4-8142-8EEAF54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64158-D367-439F-9A79-72DFD97C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D3C8D-5FBA-46BE-9ED8-7D841AFB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C4E18-983B-4296-AE19-826892B2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CE3FA-0F3A-42BD-9247-3A2C7FB5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5882C-DC8C-4622-90C2-C414D8A4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D88A2-3C5B-4059-B6A1-5C3840ED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9183E-0646-46B3-A698-C0E77354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D3A21-4D17-458A-A29F-FE9AA5B8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6E303-D2EE-4138-9370-A18D4254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5A572-8B04-4FE9-B0AC-4992E8F8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BB65A-2BDA-41A7-B5C0-453F21D8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C57AB-72CE-48DF-8AFA-7B91CADC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7A038-FB87-48A9-A1B4-95C2DFD6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AFE08-DA42-4090-9A2E-464BE5B0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53469-0719-4C4D-A852-71DEE2A1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545D3-9848-4B97-AA9B-48FBAAFD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D150E-D5C5-4379-9DC7-5AE576E8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1FE4A-4A43-44AA-8816-8DF2E1F0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F0270-FD6C-4654-B5E9-AB4D9C88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21C06-6648-4264-BD38-45333D40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B53BF-479A-4839-BB78-7FF90CB6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F4798-F310-438E-B09E-9F9E2DDE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EC51A-5A6B-4A3E-B8F5-45F20513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5D502-6EB5-4D01-9A9C-64C53D73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70255-9509-4AE3-AEA6-F93BE42C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0BD1C-9AEE-46E1-B72A-97EA9D91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64689-112A-443D-8B17-E32A0C4E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7458C-0CA7-474D-A178-D6E9889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B87A93-8649-4736-A21E-5E2FC1ACF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234C6-6BDB-439E-9359-F018F911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A809F6-3B29-40FC-BEAA-4F8558C4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6CC277-3D36-4763-8ADA-60DC1079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7EFFC-54C3-43F5-9613-132501BE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B6038-6BCA-4415-B437-809F12F1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EDC33-DDC2-47E8-B0DA-587909C1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61EDB-675B-4492-BEE2-524A6771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F622D-C30B-43E7-A4C1-9B0A76CE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2EAAF-01D4-4F8A-8AC8-26431886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22D9A-D08F-4ABC-9E29-5CA8F19E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6E2F0D-A4C8-4BAD-A34D-78AE99B7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F198E8-0442-420D-A1ED-7724C27F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A239F-8CD4-4DC5-A007-FF1FF69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4F1ED-74D6-4DAC-BDF2-C4CBB509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8632D-1D60-4F23-B0E4-A185DC6F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BEF00-F322-4B28-9C44-7D1E42BF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6A8A72-E5AE-4369-9108-6064CAC8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0FB5C-FA18-4001-A90D-A908A004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F0F25-AC16-4526-B65E-DFEFD620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633DA-8076-4C9C-9C13-F7B9E7C3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102746-F675-4740-9873-ED152C32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29DA8-6CCF-4CB5-BDE8-E29052C9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2A521-9AC8-4D1D-B2B5-909F0C4B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1C33F-0736-4A2B-988E-9645CB4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C2088B-4313-4E83-A254-7E2BE69C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7A96F3-B1EC-4089-8D46-761E104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EBAB4-9ECB-422D-AF95-C7F98EC2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9875D6-38FC-4783-B3AC-23318982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0E0CE-24F9-4E03-A673-E8624013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408EF-5F3A-4042-87C6-67BC7DC0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AB81A-3CE8-47D2-AA3B-AE26A66A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C7603-C328-48BB-95FF-16950502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68C74-FEFB-4A12-9C14-66F75744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C04A1-126A-47F7-B50C-1D8434E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D5877-091A-4C13-9A8D-1B980B29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F7F44-D81E-441F-B117-44040A43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D7D66-7FEC-4E16-9AFC-1CCCFBA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76B6D-7C1A-435E-807B-C991FD45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2241B-8994-4C41-B644-CD9CC0D3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93E7C2-97A3-405F-926E-ED114196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292AB-D405-49D5-80E8-0E3751E5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E53BB-5960-425A-BEC9-3084F91E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A99F8-1A67-4F1F-9771-23F4A712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5E08-76C4-4FCE-8AAA-6B6812EB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6B6A97-D70A-4933-BE87-4B3DC2BA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4EFF4-6269-4C0A-9C8C-B2E40D2E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90CAB-4445-4D63-8605-1FA432F2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DCF50-2FE8-4188-9CA9-AFC7F70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F5F63-1772-4C62-A6AD-0206EA95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EF865-44C5-4EE2-ACF2-72F58D74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0ED07-3128-42D3-8849-DDEC533A8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A78C-C900-41D1-AC76-82E013692E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6CAB-2775-46C4-A44F-A24F70FB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B60A-76C6-427B-A6BC-686A23E0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05B2-0BA1-4C52-B420-8777EE66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E3F5-258B-41D6-8A8E-D5BA54C2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0AD7-1F33-46AB-AFB4-35625E0F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C18E-E0F9-4247-B475-5F19CC34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4C69-BF2B-40A7-8756-95753D1C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8F3D-74D6-4BF1-AAE7-64B40197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2330-011D-4DC6-B204-024BBAB8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F52C-256F-4BA0-B3B6-CAA11239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9308-7453-4FD2-851C-BB3F3B0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D7FB-EB46-4B59-A21F-C55EBE2F2A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ED64F-044D-4BB6-98B8-5228FE0F8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F41F-F3E2-49A5-9E8B-667AE8B1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C16D2-CDF4-4A51-AF76-32F9070C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F2DCC-5738-48D2-9EB0-33C9B88B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15C37-8A38-4D80-8AAE-A04FD5D1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4DA57-2EFF-49E1-91A9-FB952AD5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B5A45-6738-4323-A6AE-66FD5035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CD882-52BC-45BA-B03F-FD9568A8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26105-E722-4852-B8D2-7CE73AAF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2F307-DB9D-46A0-AD71-442EEE99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E46E9-ADBD-4EA1-AA14-56E36D5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B4629-869B-4EA5-8831-19FAF37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644A-AACE-439D-8359-894A847F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17499-8FF7-463B-A05B-D5C263AC2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74675-E8F2-4ECD-B66C-50E88D9B9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EA4E89-A2D5-466C-98AB-8EA3D82E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97D629-F9D0-4270-AC46-0DB5F433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5613DD-508B-4D27-AB65-B1E26ACC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9F1BC6-3782-47F7-BE0A-51D3F4E9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909425-FF1C-4C0B-BBC2-2205B6A6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17A47D-C9F4-441C-AAFB-E803C92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5E7AC-53CF-41D3-99A4-A8332229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697D90-BB58-402F-B54F-1F667891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05FB-108B-4F1A-B967-D1379C77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022C24-2AD8-4109-A793-B41FCB2F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8AAAEB-4176-454B-B702-5B9E3689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9EB699-BE68-40A2-B11D-C5FACA1A2F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3615-23C7-4251-BD67-AEA1273577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662E8-2CCE-4652-8DD7-96C63832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F6174-34A9-402B-8993-DBA24A8B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E1701-F10E-4D0C-93C3-D2649F10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C720-0858-4B57-80AE-075D63CF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870C2-AFFC-4283-9BEF-22FF0FC8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A276D-0967-4CD7-91BF-75C66A63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266D-69CF-4717-8596-21AD4163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CA0D-957E-46AF-9588-1E944CFA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FE92-9AF1-4CDC-8DD4-460381D8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31C3-6143-4678-8CF0-D638C8BA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2D79-A2A3-45B7-B9B2-9124695E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C0CC-3972-4CBE-BC9D-18AA210469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594B9-83E2-4ABE-B37D-31494A884B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A7F8B-FF23-4D46-8381-028D8F34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A995D-EA7E-46B3-BC55-1BF7C3AA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F4EDC-FE61-4E25-9012-BE7490DB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2DF6B-46ED-4254-9C12-D1729C32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B4AA-1FE5-451C-98BC-C6195097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CDFB3-797D-4428-9BE7-23B0FFAC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0A4E9-14CF-41C1-A2DF-950E7CB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6061D-ECEA-4788-8940-2F89F646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E9024-1D33-44AF-9A92-38143D87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74C85-D746-4F2E-B6E6-A3CF44BE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3FF8E-D027-4003-AFCC-21E3FD1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A99E3-E6ED-460C-880A-39FE5D6E72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0C0056-3824-4B4A-B742-A5E04DE8D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A9D788-600E-4900-9352-31BEDCC2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397AC5-052F-4409-9C7D-95D37788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A07C-8ACE-4717-818A-00831353FC6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9664-12F5-43C1-9F48-54A955D761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0E26-F968-4B62-9258-AD85D22B78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87FC-4617-4643-98DE-C3DA99596C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1FBD-B598-42A2-A6B7-A22AAAF8C7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7D75-6225-461B-8C9C-823CF249D38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105-7497-4898-A80D-01297D1079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5B61-2364-4189-8D59-868BC85E8C6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07B4-8500-40BB-BB18-747401D7DC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5F96-9006-467D-A5D4-CC6D827CF2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3669-30E9-4496-9AEC-AB80DEFD92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41D-CA18-4B15-950B-13ADEA0D1D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7A04-5C86-4914-A382-FBA5A99A97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FEBC-ADDB-49BA-82D5-F436E0D71A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E4A7-F2A0-4A2E-8FC7-F81D5D0576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9DCB-903A-40FC-B131-EB80EED465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405F-BB2A-453A-BCBB-12C127F8DB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11E8-3312-4FE1-B22A-2B350B7BD5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8241-9831-4E86-9970-6DED2939CA9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D987-22C9-4FD9-96B7-E5548D12C5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4F23-FB03-4285-ADEE-F4C8C88F07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E077-33EB-4075-83C8-353C3778E46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6141-7242-4842-9A93-5E2D052E5F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1EF5-9C79-4FF5-A944-F8A689A81E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6284880" cy="360"/>
            <a:chOff x="2284560" y="2448000"/>
            <a:chExt cx="62848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6284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628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87480" y="1744560"/>
            <a:ext cx="88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以内的加法和减法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18939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1352520" y="2666880"/>
            <a:ext cx="651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三 位 数 加 三 位 数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23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5" name="椭圆 4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6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8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1" name="文本框 99"/>
          <p:cNvSpPr/>
          <p:nvPr/>
        </p:nvSpPr>
        <p:spPr>
          <a:xfrm>
            <a:off x="365040" y="942840"/>
            <a:ext cx="8488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李叔叔家的果园今年收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8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，收橘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6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，收的苹果比梨和橘子的总和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，李叔叔家今年收苹果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3"/>
          <p:cNvSpPr/>
          <p:nvPr/>
        </p:nvSpPr>
        <p:spPr>
          <a:xfrm>
            <a:off x="711360" y="2651040"/>
            <a:ext cx="710244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89+567+95=105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625320" y="3894120"/>
            <a:ext cx="6899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李叔叔今年收苹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5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4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5"/>
          <p:cNvSpPr/>
          <p:nvPr/>
        </p:nvSpPr>
        <p:spPr>
          <a:xfrm>
            <a:off x="4680000" y="1882800"/>
            <a:ext cx="1582560" cy="53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16"/>
          <p:cNvSpPr/>
          <p:nvPr/>
        </p:nvSpPr>
        <p:spPr>
          <a:xfrm>
            <a:off x="1332000" y="1882800"/>
            <a:ext cx="1582560" cy="539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51"/>
          <p:cNvSpPr/>
          <p:nvPr/>
        </p:nvSpPr>
        <p:spPr>
          <a:xfrm>
            <a:off x="2830680" y="1882800"/>
            <a:ext cx="172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3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6173640" y="188280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0"/>
          <p:cNvSpPr/>
          <p:nvPr/>
        </p:nvSpPr>
        <p:spPr>
          <a:xfrm>
            <a:off x="581040" y="982800"/>
            <a:ext cx="700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先估一估，再笔算下列各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13"/>
          <p:cNvGrpSpPr/>
          <p:nvPr/>
        </p:nvGrpSpPr>
        <p:grpSpPr>
          <a:xfrm>
            <a:off x="3875040" y="2413080"/>
            <a:ext cx="4762440" cy="1042920"/>
            <a:chOff x="3875040" y="2413080"/>
            <a:chExt cx="4762440" cy="1042920"/>
          </a:xfrm>
        </p:grpSpPr>
        <p:sp>
          <p:nvSpPr>
            <p:cNvPr id="1015" name="AutoShape 27"/>
            <p:cNvSpPr/>
            <p:nvPr/>
          </p:nvSpPr>
          <p:spPr>
            <a:xfrm>
              <a:off x="3875040" y="2783160"/>
              <a:ext cx="3384000" cy="504720"/>
            </a:xfrm>
            <a:prstGeom prst="wedgeRoundRectCallout">
              <a:avLst>
                <a:gd name="adj1" fmla="val 55583"/>
                <a:gd name="adj2" fmla="val 32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笔算加法时应注意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7659000" y="2413080"/>
              <a:ext cx="978480" cy="10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11"/>
          <p:cNvGrpSpPr/>
          <p:nvPr/>
        </p:nvGrpSpPr>
        <p:grpSpPr>
          <a:xfrm>
            <a:off x="179280" y="3289320"/>
            <a:ext cx="3554640" cy="1687320"/>
            <a:chOff x="179280" y="3289320"/>
            <a:chExt cx="3554640" cy="1687320"/>
          </a:xfrm>
        </p:grpSpPr>
        <p:sp>
          <p:nvSpPr>
            <p:cNvPr id="1018" name="AutoShape 27"/>
            <p:cNvSpPr/>
            <p:nvPr/>
          </p:nvSpPr>
          <p:spPr>
            <a:xfrm>
              <a:off x="1806480" y="3576960"/>
              <a:ext cx="1927440" cy="891000"/>
            </a:xfrm>
            <a:prstGeom prst="wedgeRoundRectCallout">
              <a:avLst>
                <a:gd name="adj1" fmla="val -62995"/>
                <a:gd name="adj2" fmla="val 235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相同数位对齐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从个位加起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图片 5" descr="]@P`{@U$K{A7A$9804YYMFT"/>
            <p:cNvPicPr/>
            <p:nvPr/>
          </p:nvPicPr>
          <p:blipFill>
            <a:blip r:embed="rId9"/>
            <a:stretch/>
          </p:blipFill>
          <p:spPr>
            <a:xfrm>
              <a:off x="179280" y="3289320"/>
              <a:ext cx="1328400" cy="168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0" name="组合 10"/>
          <p:cNvGrpSpPr/>
          <p:nvPr/>
        </p:nvGrpSpPr>
        <p:grpSpPr>
          <a:xfrm>
            <a:off x="2700360" y="4270320"/>
            <a:ext cx="4754520" cy="1805040"/>
            <a:chOff x="2700360" y="4270320"/>
            <a:chExt cx="4754520" cy="1805040"/>
          </a:xfrm>
        </p:grpSpPr>
        <p:sp>
          <p:nvSpPr>
            <p:cNvPr id="1021" name="AutoShape 27"/>
            <p:cNvSpPr/>
            <p:nvPr/>
          </p:nvSpPr>
          <p:spPr>
            <a:xfrm>
              <a:off x="2700360" y="4723560"/>
              <a:ext cx="3240360" cy="496440"/>
            </a:xfrm>
            <a:prstGeom prst="wedgeRoundRectCallout">
              <a:avLst>
                <a:gd name="adj1" fmla="val 56995"/>
                <a:gd name="adj2" fmla="val 90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哪一位上的数相加满十，向前一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8" descr="_4`F[E$PX4I}_~SSZVJ7V4J"/>
            <p:cNvPicPr/>
            <p:nvPr/>
          </p:nvPicPr>
          <p:blipFill>
            <a:blip r:embed="rId10"/>
            <a:stretch/>
          </p:blipFill>
          <p:spPr>
            <a:xfrm>
              <a:off x="6263280" y="4270320"/>
              <a:ext cx="119160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26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8" name="椭圆 4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9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34" name="Group 58"/>
          <p:cNvGrpSpPr/>
          <p:nvPr/>
        </p:nvGrpSpPr>
        <p:grpSpPr>
          <a:xfrm>
            <a:off x="938880" y="2475000"/>
            <a:ext cx="2437560" cy="1057320"/>
            <a:chOff x="938880" y="2475000"/>
            <a:chExt cx="2437560" cy="1057320"/>
          </a:xfrm>
        </p:grpSpPr>
        <p:sp>
          <p:nvSpPr>
            <p:cNvPr id="1035" name="Rectangle 51"/>
            <p:cNvSpPr/>
            <p:nvPr/>
          </p:nvSpPr>
          <p:spPr>
            <a:xfrm>
              <a:off x="1069920" y="2475000"/>
              <a:ext cx="2306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4 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直接连接符 17"/>
            <p:cNvSpPr/>
            <p:nvPr/>
          </p:nvSpPr>
          <p:spPr>
            <a:xfrm>
              <a:off x="944280" y="3532320"/>
              <a:ext cx="14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2"/>
            <p:cNvSpPr/>
            <p:nvPr/>
          </p:nvSpPr>
          <p:spPr>
            <a:xfrm>
              <a:off x="938880" y="2909880"/>
              <a:ext cx="1483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9 8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矩形 89"/>
          <p:cNvSpPr/>
          <p:nvPr/>
        </p:nvSpPr>
        <p:spPr>
          <a:xfrm>
            <a:off x="500040" y="946080"/>
            <a:ext cx="905040" cy="58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1"/>
          <p:cNvSpPr/>
          <p:nvPr/>
        </p:nvSpPr>
        <p:spPr>
          <a:xfrm>
            <a:off x="906480" y="1952640"/>
            <a:ext cx="3521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4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29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51"/>
          <p:cNvSpPr/>
          <p:nvPr/>
        </p:nvSpPr>
        <p:spPr>
          <a:xfrm>
            <a:off x="1984320" y="3513240"/>
            <a:ext cx="57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1711440" y="35132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1430280" y="35132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1"/>
          <p:cNvSpPr/>
          <p:nvPr/>
        </p:nvSpPr>
        <p:spPr>
          <a:xfrm>
            <a:off x="2674800" y="1952640"/>
            <a:ext cx="2071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4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（种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1"/>
          <p:cNvSpPr/>
          <p:nvPr/>
        </p:nvSpPr>
        <p:spPr>
          <a:xfrm>
            <a:off x="1851120" y="3267000"/>
            <a:ext cx="576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1"/>
          <p:cNvSpPr/>
          <p:nvPr/>
        </p:nvSpPr>
        <p:spPr>
          <a:xfrm>
            <a:off x="1574640" y="326700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8"/>
          <p:cNvSpPr/>
          <p:nvPr/>
        </p:nvSpPr>
        <p:spPr>
          <a:xfrm>
            <a:off x="969840" y="83988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34"/>
          <p:cNvSpPr/>
          <p:nvPr/>
        </p:nvSpPr>
        <p:spPr>
          <a:xfrm>
            <a:off x="763560" y="6969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某湿地有野生植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种，野生动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9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种。该湿地的野生植物和野生动物共有多少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八边形 3"/>
          <p:cNvSpPr/>
          <p:nvPr/>
        </p:nvSpPr>
        <p:spPr>
          <a:xfrm>
            <a:off x="179280" y="77940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8"/>
          <p:cNvGrpSpPr/>
          <p:nvPr/>
        </p:nvGrpSpPr>
        <p:grpSpPr>
          <a:xfrm>
            <a:off x="293760" y="4413240"/>
            <a:ext cx="2995560" cy="1042920"/>
            <a:chOff x="293760" y="4413240"/>
            <a:chExt cx="2995560" cy="1042920"/>
          </a:xfrm>
        </p:grpSpPr>
        <p:sp>
          <p:nvSpPr>
            <p:cNvPr id="1050" name="AutoShape 27"/>
            <p:cNvSpPr/>
            <p:nvPr/>
          </p:nvSpPr>
          <p:spPr>
            <a:xfrm>
              <a:off x="1598040" y="4413240"/>
              <a:ext cx="1691280" cy="430560"/>
            </a:xfrm>
            <a:prstGeom prst="wedgeRoundRectCallout">
              <a:avLst>
                <a:gd name="adj1" fmla="val -62083"/>
                <a:gd name="adj2" fmla="val 554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  <a:ea typeface="宋体"/>
                </a:rPr>
                <a:t>怎样列式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1" name="图片 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293760" y="4413240"/>
              <a:ext cx="977760" cy="10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11"/>
          <p:cNvGrpSpPr/>
          <p:nvPr/>
        </p:nvGrpSpPr>
        <p:grpSpPr>
          <a:xfrm>
            <a:off x="4314960" y="1854360"/>
            <a:ext cx="4146480" cy="1101600"/>
            <a:chOff x="4314960" y="1854360"/>
            <a:chExt cx="4146480" cy="1101600"/>
          </a:xfrm>
        </p:grpSpPr>
        <p:sp>
          <p:nvSpPr>
            <p:cNvPr id="1053" name="AutoShape 27"/>
            <p:cNvSpPr/>
            <p:nvPr/>
          </p:nvSpPr>
          <p:spPr>
            <a:xfrm>
              <a:off x="5508360" y="1920600"/>
              <a:ext cx="2953080" cy="968400"/>
            </a:xfrm>
            <a:prstGeom prst="wedgeRoundRectCallout">
              <a:avLst>
                <a:gd name="adj1" fmla="val -58333"/>
                <a:gd name="adj2" fmla="val -12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位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向十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10" descr="]@P`{@U$K{A7A$9804YYMFT"/>
            <p:cNvPicPr/>
            <p:nvPr/>
          </p:nvPicPr>
          <p:blipFill>
            <a:blip r:embed="rId9"/>
            <a:stretch/>
          </p:blipFill>
          <p:spPr>
            <a:xfrm>
              <a:off x="4314960" y="1854360"/>
              <a:ext cx="867960" cy="11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15"/>
          <p:cNvGrpSpPr/>
          <p:nvPr/>
        </p:nvGrpSpPr>
        <p:grpSpPr>
          <a:xfrm>
            <a:off x="4930920" y="3181320"/>
            <a:ext cx="4105080" cy="1231920"/>
            <a:chOff x="4930920" y="3181320"/>
            <a:chExt cx="4105080" cy="1231920"/>
          </a:xfrm>
        </p:grpSpPr>
        <p:sp>
          <p:nvSpPr>
            <p:cNvPr id="1056" name="AutoShape 27"/>
            <p:cNvSpPr/>
            <p:nvPr/>
          </p:nvSpPr>
          <p:spPr>
            <a:xfrm>
              <a:off x="4930920" y="3288960"/>
              <a:ext cx="3024360" cy="974160"/>
            </a:xfrm>
            <a:prstGeom prst="wedgeRoundRectCallout">
              <a:avLst>
                <a:gd name="adj1" fmla="val 54935"/>
                <a:gd name="adj2" fmla="val 187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十位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在十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向百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13" descr="_4`F[E$PX4I}_~SSZVJ7V4J"/>
            <p:cNvPicPr/>
            <p:nvPr/>
          </p:nvPicPr>
          <p:blipFill>
            <a:blip r:embed="rId10"/>
            <a:stretch/>
          </p:blipFill>
          <p:spPr>
            <a:xfrm>
              <a:off x="8222760" y="3181320"/>
              <a:ext cx="813240" cy="12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2"/>
          <p:cNvGrpSpPr/>
          <p:nvPr/>
        </p:nvGrpSpPr>
        <p:grpSpPr>
          <a:xfrm>
            <a:off x="3567240" y="4560840"/>
            <a:ext cx="3811320" cy="1195560"/>
            <a:chOff x="3567240" y="4560840"/>
            <a:chExt cx="3811320" cy="1195560"/>
          </a:xfrm>
        </p:grpSpPr>
        <p:sp>
          <p:nvSpPr>
            <p:cNvPr id="1059" name="AutoShape 27"/>
            <p:cNvSpPr/>
            <p:nvPr/>
          </p:nvSpPr>
          <p:spPr>
            <a:xfrm>
              <a:off x="4512960" y="4652640"/>
              <a:ext cx="2865600" cy="1011600"/>
            </a:xfrm>
            <a:prstGeom prst="wedgeRoundRectCallout">
              <a:avLst>
                <a:gd name="adj1" fmla="val -59245"/>
                <a:gd name="adj2" fmla="val 8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位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在百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16" descr="AG]4}@PH9UX]GS)L_H5_`K9"/>
            <p:cNvPicPr/>
            <p:nvPr/>
          </p:nvPicPr>
          <p:blipFill>
            <a:blip r:embed="rId11"/>
            <a:stretch/>
          </p:blipFill>
          <p:spPr>
            <a:xfrm>
              <a:off x="3567240" y="4560840"/>
              <a:ext cx="654120" cy="1195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2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64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椭圆 4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7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2" name="矩形 89"/>
          <p:cNvSpPr/>
          <p:nvPr/>
        </p:nvSpPr>
        <p:spPr>
          <a:xfrm>
            <a:off x="644400" y="1160640"/>
            <a:ext cx="90504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1"/>
          <p:cNvSpPr/>
          <p:nvPr/>
        </p:nvSpPr>
        <p:spPr>
          <a:xfrm>
            <a:off x="1114560" y="105408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圆角矩形 42"/>
          <p:cNvSpPr/>
          <p:nvPr/>
        </p:nvSpPr>
        <p:spPr>
          <a:xfrm>
            <a:off x="4354560" y="2782800"/>
            <a:ext cx="1079280" cy="582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验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76"/>
          <p:cNvSpPr/>
          <p:nvPr/>
        </p:nvSpPr>
        <p:spPr>
          <a:xfrm>
            <a:off x="758880" y="77940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某湿地有野生植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种，野生动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9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种。该湿地的野生植物和野生动物共有多少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51"/>
          <p:cNvSpPr/>
          <p:nvPr/>
        </p:nvSpPr>
        <p:spPr>
          <a:xfrm>
            <a:off x="1050840" y="2166840"/>
            <a:ext cx="3521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4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29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51"/>
          <p:cNvSpPr/>
          <p:nvPr/>
        </p:nvSpPr>
        <p:spPr>
          <a:xfrm>
            <a:off x="2819520" y="2166840"/>
            <a:ext cx="2071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4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（种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117"/>
          <p:cNvGrpSpPr/>
          <p:nvPr/>
        </p:nvGrpSpPr>
        <p:grpSpPr>
          <a:xfrm>
            <a:off x="1088280" y="2689200"/>
            <a:ext cx="2437560" cy="1607400"/>
            <a:chOff x="1088280" y="2689200"/>
            <a:chExt cx="2437560" cy="1607400"/>
          </a:xfrm>
        </p:grpSpPr>
        <p:grpSp>
          <p:nvGrpSpPr>
            <p:cNvPr id="1079" name="Group 99"/>
            <p:cNvGrpSpPr/>
            <p:nvPr/>
          </p:nvGrpSpPr>
          <p:grpSpPr>
            <a:xfrm>
              <a:off x="1088280" y="2689200"/>
              <a:ext cx="2437560" cy="1057320"/>
              <a:chOff x="1088280" y="2689200"/>
              <a:chExt cx="2437560" cy="1057320"/>
            </a:xfrm>
          </p:grpSpPr>
          <p:sp>
            <p:nvSpPr>
              <p:cNvPr id="1080" name="Rectangle 51"/>
              <p:cNvSpPr/>
              <p:nvPr/>
            </p:nvSpPr>
            <p:spPr>
              <a:xfrm>
                <a:off x="1219320" y="2689200"/>
                <a:ext cx="23065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 4 5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直接连接符 17"/>
              <p:cNvSpPr/>
              <p:nvPr/>
            </p:nvSpPr>
            <p:spPr>
              <a:xfrm>
                <a:off x="1093680" y="3746520"/>
                <a:ext cx="1476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102"/>
              <p:cNvSpPr/>
              <p:nvPr/>
            </p:nvSpPr>
            <p:spPr>
              <a:xfrm>
                <a:off x="1088280" y="3124080"/>
                <a:ext cx="14839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＋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9 8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Rectangle 51"/>
            <p:cNvSpPr/>
            <p:nvPr/>
          </p:nvSpPr>
          <p:spPr>
            <a:xfrm>
              <a:off x="2133720" y="372744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51"/>
            <p:cNvSpPr/>
            <p:nvPr/>
          </p:nvSpPr>
          <p:spPr>
            <a:xfrm>
              <a:off x="1860480" y="3727440"/>
              <a:ext cx="4953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51"/>
            <p:cNvSpPr/>
            <p:nvPr/>
          </p:nvSpPr>
          <p:spPr>
            <a:xfrm>
              <a:off x="1579680" y="3727440"/>
              <a:ext cx="495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51"/>
            <p:cNvSpPr/>
            <p:nvPr/>
          </p:nvSpPr>
          <p:spPr>
            <a:xfrm>
              <a:off x="2000160" y="3481200"/>
              <a:ext cx="576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51"/>
            <p:cNvSpPr/>
            <p:nvPr/>
          </p:nvSpPr>
          <p:spPr>
            <a:xfrm>
              <a:off x="1724040" y="3481200"/>
              <a:ext cx="576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108"/>
          <p:cNvGrpSpPr/>
          <p:nvPr/>
        </p:nvGrpSpPr>
        <p:grpSpPr>
          <a:xfrm>
            <a:off x="5517360" y="2689200"/>
            <a:ext cx="2437560" cy="1057320"/>
            <a:chOff x="5517360" y="2689200"/>
            <a:chExt cx="2437560" cy="1057320"/>
          </a:xfrm>
        </p:grpSpPr>
        <p:sp>
          <p:nvSpPr>
            <p:cNvPr id="1089" name="Rectangle 51"/>
            <p:cNvSpPr/>
            <p:nvPr/>
          </p:nvSpPr>
          <p:spPr>
            <a:xfrm>
              <a:off x="5648400" y="2689200"/>
              <a:ext cx="2306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9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直接连接符 17"/>
            <p:cNvSpPr/>
            <p:nvPr/>
          </p:nvSpPr>
          <p:spPr>
            <a:xfrm>
              <a:off x="5522760" y="3746520"/>
              <a:ext cx="14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11"/>
            <p:cNvSpPr/>
            <p:nvPr/>
          </p:nvSpPr>
          <p:spPr>
            <a:xfrm>
              <a:off x="5517360" y="3124080"/>
              <a:ext cx="1483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 4 5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Rectangle 51"/>
          <p:cNvSpPr/>
          <p:nvPr/>
        </p:nvSpPr>
        <p:spPr>
          <a:xfrm>
            <a:off x="6562800" y="3727440"/>
            <a:ext cx="57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51"/>
          <p:cNvSpPr/>
          <p:nvPr/>
        </p:nvSpPr>
        <p:spPr>
          <a:xfrm>
            <a:off x="6289560" y="37274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51"/>
          <p:cNvSpPr/>
          <p:nvPr/>
        </p:nvSpPr>
        <p:spPr>
          <a:xfrm>
            <a:off x="6008760" y="3727440"/>
            <a:ext cx="49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51"/>
          <p:cNvSpPr/>
          <p:nvPr/>
        </p:nvSpPr>
        <p:spPr>
          <a:xfrm>
            <a:off x="6429240" y="348156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51"/>
          <p:cNvSpPr/>
          <p:nvPr/>
        </p:nvSpPr>
        <p:spPr>
          <a:xfrm>
            <a:off x="6153120" y="3481560"/>
            <a:ext cx="576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八边形 10"/>
          <p:cNvSpPr/>
          <p:nvPr/>
        </p:nvSpPr>
        <p:spPr>
          <a:xfrm>
            <a:off x="179280" y="77940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组合 13"/>
          <p:cNvGrpSpPr/>
          <p:nvPr/>
        </p:nvGrpSpPr>
        <p:grpSpPr>
          <a:xfrm>
            <a:off x="693720" y="4519440"/>
            <a:ext cx="3732120" cy="1043280"/>
            <a:chOff x="693720" y="4519440"/>
            <a:chExt cx="3732120" cy="1043280"/>
          </a:xfrm>
        </p:grpSpPr>
        <p:sp>
          <p:nvSpPr>
            <p:cNvPr id="1099" name="AutoShape 27"/>
            <p:cNvSpPr/>
            <p:nvPr/>
          </p:nvSpPr>
          <p:spPr>
            <a:xfrm>
              <a:off x="1978560" y="4519440"/>
              <a:ext cx="2447280" cy="496440"/>
            </a:xfrm>
            <a:prstGeom prst="wedgeRoundRectCallout">
              <a:avLst>
                <a:gd name="adj1" fmla="val -58351"/>
                <a:gd name="adj2" fmla="val 55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可以怎样验算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0" name="图片 11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693720" y="4519440"/>
              <a:ext cx="978120" cy="10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1" name="组合 15"/>
          <p:cNvGrpSpPr/>
          <p:nvPr/>
        </p:nvGrpSpPr>
        <p:grpSpPr>
          <a:xfrm>
            <a:off x="4788000" y="4221000"/>
            <a:ext cx="4392360" cy="1805040"/>
            <a:chOff x="4788000" y="4221000"/>
            <a:chExt cx="4392360" cy="1805040"/>
          </a:xfrm>
        </p:grpSpPr>
        <p:sp>
          <p:nvSpPr>
            <p:cNvPr id="1102" name="AutoShape 27"/>
            <p:cNvSpPr/>
            <p:nvPr/>
          </p:nvSpPr>
          <p:spPr>
            <a:xfrm>
              <a:off x="4788000" y="4366800"/>
              <a:ext cx="2886120" cy="1009440"/>
            </a:xfrm>
            <a:prstGeom prst="wedgeRoundRectCallout">
              <a:avLst>
                <a:gd name="adj1" fmla="val 57976"/>
                <a:gd name="adj2" fmla="val -279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可以交换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9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位置，再算一遍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3" name="图片 14" descr="_4`F[E$PX4I}_~SSZVJ7V4J"/>
            <p:cNvPicPr/>
            <p:nvPr/>
          </p:nvPicPr>
          <p:blipFill>
            <a:blip r:embed="rId9"/>
            <a:stretch/>
          </p:blipFill>
          <p:spPr>
            <a:xfrm>
              <a:off x="7989120" y="4221000"/>
              <a:ext cx="119124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文本框 3"/>
          <p:cNvSpPr/>
          <p:nvPr/>
        </p:nvSpPr>
        <p:spPr>
          <a:xfrm>
            <a:off x="1112760" y="795240"/>
            <a:ext cx="69184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三位数加三位数（连续进位）的计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13"/>
          <p:cNvSpPr/>
          <p:nvPr/>
        </p:nvSpPr>
        <p:spPr>
          <a:xfrm>
            <a:off x="453960" y="1628640"/>
            <a:ext cx="823608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同数位对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从个位加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哪一位相加满十，就都要向前一位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3"/>
          <p:cNvSpPr/>
          <p:nvPr/>
        </p:nvSpPr>
        <p:spPr>
          <a:xfrm>
            <a:off x="627120" y="3610080"/>
            <a:ext cx="5817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法的验算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5"/>
          <p:cNvSpPr/>
          <p:nvPr/>
        </p:nvSpPr>
        <p:spPr>
          <a:xfrm>
            <a:off x="627120" y="4505400"/>
            <a:ext cx="69595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要验算加法可以交换两个加数的位置再算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11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椭圆 4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9" name="TextBox 4"/>
          <p:cNvSpPr/>
          <p:nvPr/>
        </p:nvSpPr>
        <p:spPr>
          <a:xfrm>
            <a:off x="142920" y="7840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先想一想是否有进位，再计算并验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11"/>
          <p:cNvGrpSpPr/>
          <p:nvPr/>
        </p:nvGrpSpPr>
        <p:grpSpPr>
          <a:xfrm>
            <a:off x="142920" y="1427040"/>
            <a:ext cx="1643040" cy="1571760"/>
            <a:chOff x="142920" y="1427040"/>
            <a:chExt cx="1643040" cy="1571760"/>
          </a:xfrm>
        </p:grpSpPr>
        <p:sp>
          <p:nvSpPr>
            <p:cNvPr id="1121" name="TextBox 9"/>
            <p:cNvSpPr/>
            <p:nvPr/>
          </p:nvSpPr>
          <p:spPr>
            <a:xfrm>
              <a:off x="142920" y="142704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 6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   7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直接连接符 10"/>
            <p:cNvSpPr/>
            <p:nvPr/>
          </p:nvSpPr>
          <p:spPr>
            <a:xfrm>
              <a:off x="285480" y="2641680"/>
              <a:ext cx="1428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TextBox 11"/>
          <p:cNvSpPr/>
          <p:nvPr/>
        </p:nvSpPr>
        <p:spPr>
          <a:xfrm>
            <a:off x="642960" y="2592360"/>
            <a:ext cx="107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 4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16"/>
          <p:cNvGrpSpPr/>
          <p:nvPr/>
        </p:nvGrpSpPr>
        <p:grpSpPr>
          <a:xfrm>
            <a:off x="1785960" y="1498680"/>
            <a:ext cx="2000160" cy="1571400"/>
            <a:chOff x="1785960" y="1498680"/>
            <a:chExt cx="2000160" cy="1571400"/>
          </a:xfrm>
        </p:grpSpPr>
        <p:grpSp>
          <p:nvGrpSpPr>
            <p:cNvPr id="1125" name="组合 11"/>
            <p:cNvGrpSpPr/>
            <p:nvPr/>
          </p:nvGrpSpPr>
          <p:grpSpPr>
            <a:xfrm>
              <a:off x="2143080" y="1498680"/>
              <a:ext cx="1643040" cy="1571400"/>
              <a:chOff x="2143080" y="1498680"/>
              <a:chExt cx="1643040" cy="1571400"/>
            </a:xfrm>
          </p:grpSpPr>
          <p:sp>
            <p:nvSpPr>
              <p:cNvPr id="1126" name="TextBox 13"/>
              <p:cNvSpPr/>
              <p:nvPr/>
            </p:nvSpPr>
            <p:spPr>
              <a:xfrm>
                <a:off x="2143080" y="1498680"/>
                <a:ext cx="1643040" cy="15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7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+ 1 6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2 4 3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14"/>
              <p:cNvSpPr/>
              <p:nvPr/>
            </p:nvSpPr>
            <p:spPr>
              <a:xfrm>
                <a:off x="2357280" y="2712960"/>
                <a:ext cx="142884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TextBox 15"/>
            <p:cNvSpPr/>
            <p:nvPr/>
          </p:nvSpPr>
          <p:spPr>
            <a:xfrm>
              <a:off x="1785960" y="1712880"/>
              <a:ext cx="5713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组合 11"/>
          <p:cNvGrpSpPr/>
          <p:nvPr/>
        </p:nvGrpSpPr>
        <p:grpSpPr>
          <a:xfrm>
            <a:off x="4643280" y="1427040"/>
            <a:ext cx="1643400" cy="1571760"/>
            <a:chOff x="4643280" y="1427040"/>
            <a:chExt cx="1643400" cy="1571760"/>
          </a:xfrm>
        </p:grpSpPr>
        <p:sp>
          <p:nvSpPr>
            <p:cNvPr id="1130" name="TextBox 18"/>
            <p:cNvSpPr/>
            <p:nvPr/>
          </p:nvSpPr>
          <p:spPr>
            <a:xfrm>
              <a:off x="4643280" y="1427040"/>
              <a:ext cx="1643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 0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 3 9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直接连接符 19"/>
            <p:cNvSpPr/>
            <p:nvPr/>
          </p:nvSpPr>
          <p:spPr>
            <a:xfrm>
              <a:off x="4786200" y="2641680"/>
              <a:ext cx="1429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TextBox 20"/>
          <p:cNvSpPr/>
          <p:nvPr/>
        </p:nvSpPr>
        <p:spPr>
          <a:xfrm>
            <a:off x="5143680" y="2592360"/>
            <a:ext cx="10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 0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组合 21"/>
          <p:cNvGrpSpPr/>
          <p:nvPr/>
        </p:nvGrpSpPr>
        <p:grpSpPr>
          <a:xfrm>
            <a:off x="6286680" y="1498680"/>
            <a:ext cx="2000160" cy="1571400"/>
            <a:chOff x="6286680" y="1498680"/>
            <a:chExt cx="2000160" cy="1571400"/>
          </a:xfrm>
        </p:grpSpPr>
        <p:grpSp>
          <p:nvGrpSpPr>
            <p:cNvPr id="1134" name="组合 11"/>
            <p:cNvGrpSpPr/>
            <p:nvPr/>
          </p:nvGrpSpPr>
          <p:grpSpPr>
            <a:xfrm>
              <a:off x="6643800" y="1498680"/>
              <a:ext cx="1643040" cy="1571400"/>
              <a:chOff x="6643800" y="1498680"/>
              <a:chExt cx="1643040" cy="1571400"/>
            </a:xfrm>
          </p:grpSpPr>
          <p:sp>
            <p:nvSpPr>
              <p:cNvPr id="1135" name="TextBox 24"/>
              <p:cNvSpPr/>
              <p:nvPr/>
            </p:nvSpPr>
            <p:spPr>
              <a:xfrm>
                <a:off x="6643800" y="1498680"/>
                <a:ext cx="1643040" cy="15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3 9 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+ 4 0 9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8 0 3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直接连接符 25"/>
              <p:cNvSpPr/>
              <p:nvPr/>
            </p:nvSpPr>
            <p:spPr>
              <a:xfrm>
                <a:off x="6786360" y="2712960"/>
                <a:ext cx="142884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7" name="TextBox 23"/>
            <p:cNvSpPr/>
            <p:nvPr/>
          </p:nvSpPr>
          <p:spPr>
            <a:xfrm>
              <a:off x="6286680" y="1712880"/>
              <a:ext cx="5713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Rectangle 51"/>
          <p:cNvSpPr/>
          <p:nvPr/>
        </p:nvSpPr>
        <p:spPr>
          <a:xfrm>
            <a:off x="1139760" y="22845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51"/>
          <p:cNvSpPr/>
          <p:nvPr/>
        </p:nvSpPr>
        <p:spPr>
          <a:xfrm>
            <a:off x="785880" y="22845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1"/>
          <p:cNvSpPr/>
          <p:nvPr/>
        </p:nvSpPr>
        <p:spPr>
          <a:xfrm>
            <a:off x="5572080" y="2293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51"/>
          <p:cNvSpPr/>
          <p:nvPr/>
        </p:nvSpPr>
        <p:spPr>
          <a:xfrm>
            <a:off x="5286240" y="22845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11"/>
          <p:cNvGrpSpPr/>
          <p:nvPr/>
        </p:nvGrpSpPr>
        <p:grpSpPr>
          <a:xfrm>
            <a:off x="142920" y="3713040"/>
            <a:ext cx="1643040" cy="1571760"/>
            <a:chOff x="142920" y="3713040"/>
            <a:chExt cx="1643040" cy="1571760"/>
          </a:xfrm>
        </p:grpSpPr>
        <p:sp>
          <p:nvSpPr>
            <p:cNvPr id="1143" name="TextBox 31"/>
            <p:cNvSpPr/>
            <p:nvPr/>
          </p:nvSpPr>
          <p:spPr>
            <a:xfrm>
              <a:off x="142920" y="371304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 4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 2 6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直接连接符 32"/>
            <p:cNvSpPr/>
            <p:nvPr/>
          </p:nvSpPr>
          <p:spPr>
            <a:xfrm>
              <a:off x="285480" y="4927680"/>
              <a:ext cx="1428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TextBox 33"/>
          <p:cNvSpPr/>
          <p:nvPr/>
        </p:nvSpPr>
        <p:spPr>
          <a:xfrm>
            <a:off x="-214200" y="487980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 0 1 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组合 34"/>
          <p:cNvGrpSpPr/>
          <p:nvPr/>
        </p:nvGrpSpPr>
        <p:grpSpPr>
          <a:xfrm>
            <a:off x="1785960" y="3784680"/>
            <a:ext cx="2214720" cy="1643040"/>
            <a:chOff x="1785960" y="3784680"/>
            <a:chExt cx="2214720" cy="1643040"/>
          </a:xfrm>
        </p:grpSpPr>
        <p:grpSp>
          <p:nvGrpSpPr>
            <p:cNvPr id="1147" name="组合 11"/>
            <p:cNvGrpSpPr/>
            <p:nvPr/>
          </p:nvGrpSpPr>
          <p:grpSpPr>
            <a:xfrm>
              <a:off x="2143080" y="3784680"/>
              <a:ext cx="1857600" cy="1643040"/>
              <a:chOff x="2143080" y="3784680"/>
              <a:chExt cx="1857600" cy="1643040"/>
            </a:xfrm>
          </p:grpSpPr>
          <p:sp>
            <p:nvSpPr>
              <p:cNvPr id="1148" name="TextBox 37"/>
              <p:cNvSpPr/>
              <p:nvPr/>
            </p:nvSpPr>
            <p:spPr>
              <a:xfrm>
                <a:off x="2143080" y="3784680"/>
                <a:ext cx="1857600" cy="16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2 6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+  7 4 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1 0 1 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直接连接符 38"/>
              <p:cNvSpPr/>
              <p:nvPr/>
            </p:nvSpPr>
            <p:spPr>
              <a:xfrm>
                <a:off x="2285640" y="4999320"/>
                <a:ext cx="142884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TextBox 36"/>
            <p:cNvSpPr/>
            <p:nvPr/>
          </p:nvSpPr>
          <p:spPr>
            <a:xfrm>
              <a:off x="1785960" y="3998880"/>
              <a:ext cx="5713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组合 11"/>
          <p:cNvGrpSpPr/>
          <p:nvPr/>
        </p:nvGrpSpPr>
        <p:grpSpPr>
          <a:xfrm>
            <a:off x="5000760" y="3713040"/>
            <a:ext cx="1643040" cy="1571760"/>
            <a:chOff x="5000760" y="3713040"/>
            <a:chExt cx="1643040" cy="1571760"/>
          </a:xfrm>
        </p:grpSpPr>
        <p:sp>
          <p:nvSpPr>
            <p:cNvPr id="1152" name="TextBox 40"/>
            <p:cNvSpPr/>
            <p:nvPr/>
          </p:nvSpPr>
          <p:spPr>
            <a:xfrm>
              <a:off x="5000760" y="371304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 7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+ 9 5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直接连接符 41"/>
            <p:cNvSpPr/>
            <p:nvPr/>
          </p:nvSpPr>
          <p:spPr>
            <a:xfrm>
              <a:off x="5143320" y="4927680"/>
              <a:ext cx="107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TextBox 42"/>
          <p:cNvSpPr/>
          <p:nvPr/>
        </p:nvSpPr>
        <p:spPr>
          <a:xfrm>
            <a:off x="5143680" y="49276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 6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组合 43"/>
          <p:cNvGrpSpPr/>
          <p:nvPr/>
        </p:nvGrpSpPr>
        <p:grpSpPr>
          <a:xfrm>
            <a:off x="6286680" y="3784680"/>
            <a:ext cx="2000160" cy="1571400"/>
            <a:chOff x="6286680" y="3784680"/>
            <a:chExt cx="2000160" cy="1571400"/>
          </a:xfrm>
        </p:grpSpPr>
        <p:grpSp>
          <p:nvGrpSpPr>
            <p:cNvPr id="1156" name="组合 11"/>
            <p:cNvGrpSpPr/>
            <p:nvPr/>
          </p:nvGrpSpPr>
          <p:grpSpPr>
            <a:xfrm>
              <a:off x="6643800" y="3784680"/>
              <a:ext cx="1643040" cy="1571400"/>
              <a:chOff x="6643800" y="3784680"/>
              <a:chExt cx="1643040" cy="1571400"/>
            </a:xfrm>
          </p:grpSpPr>
          <p:sp>
            <p:nvSpPr>
              <p:cNvPr id="1157" name="TextBox 46"/>
              <p:cNvSpPr/>
              <p:nvPr/>
            </p:nvSpPr>
            <p:spPr>
              <a:xfrm>
                <a:off x="6643800" y="3784680"/>
                <a:ext cx="1643040" cy="15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 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9 5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+   6 7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   </a:t>
                </a: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1 6 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直接连接符 47"/>
              <p:cNvSpPr/>
              <p:nvPr/>
            </p:nvSpPr>
            <p:spPr>
              <a:xfrm>
                <a:off x="6786360" y="4998960"/>
                <a:ext cx="142884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9" name="TextBox 45"/>
            <p:cNvSpPr/>
            <p:nvPr/>
          </p:nvSpPr>
          <p:spPr>
            <a:xfrm>
              <a:off x="6286680" y="3998880"/>
              <a:ext cx="5713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Rectangle 51"/>
          <p:cNvSpPr/>
          <p:nvPr/>
        </p:nvSpPr>
        <p:spPr>
          <a:xfrm>
            <a:off x="1139760" y="45705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51"/>
          <p:cNvSpPr/>
          <p:nvPr/>
        </p:nvSpPr>
        <p:spPr>
          <a:xfrm>
            <a:off x="785880" y="45705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51"/>
          <p:cNvSpPr/>
          <p:nvPr/>
        </p:nvSpPr>
        <p:spPr>
          <a:xfrm>
            <a:off x="5643720" y="45705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51"/>
          <p:cNvSpPr/>
          <p:nvPr/>
        </p:nvSpPr>
        <p:spPr>
          <a:xfrm>
            <a:off x="425520" y="45705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67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椭圆 4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0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5" name="文本框 99"/>
          <p:cNvSpPr/>
          <p:nvPr/>
        </p:nvSpPr>
        <p:spPr>
          <a:xfrm>
            <a:off x="279360" y="8380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计算并验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文本框 13"/>
          <p:cNvSpPr/>
          <p:nvPr/>
        </p:nvSpPr>
        <p:spPr>
          <a:xfrm>
            <a:off x="754200" y="1511280"/>
            <a:ext cx="1585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 7 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 6 4 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15"/>
          <p:cNvSpPr/>
          <p:nvPr/>
        </p:nvSpPr>
        <p:spPr>
          <a:xfrm>
            <a:off x="700200" y="2841480"/>
            <a:ext cx="1784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直接连接符 16"/>
          <p:cNvSpPr/>
          <p:nvPr/>
        </p:nvSpPr>
        <p:spPr>
          <a:xfrm>
            <a:off x="655560" y="2841480"/>
            <a:ext cx="1782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3"/>
          <p:cNvSpPr/>
          <p:nvPr/>
        </p:nvSpPr>
        <p:spPr>
          <a:xfrm>
            <a:off x="946080" y="2841480"/>
            <a:ext cx="1492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 2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8"/>
          <p:cNvGrpSpPr/>
          <p:nvPr/>
        </p:nvGrpSpPr>
        <p:grpSpPr>
          <a:xfrm>
            <a:off x="4410000" y="1571760"/>
            <a:ext cx="1784520" cy="2050920"/>
            <a:chOff x="4410000" y="1571760"/>
            <a:chExt cx="1784520" cy="2050920"/>
          </a:xfrm>
        </p:grpSpPr>
        <p:sp>
          <p:nvSpPr>
            <p:cNvPr id="1181" name="文本框 22"/>
            <p:cNvSpPr/>
            <p:nvPr/>
          </p:nvSpPr>
          <p:spPr>
            <a:xfrm>
              <a:off x="4509360" y="1571760"/>
              <a:ext cx="158580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 4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7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直接连接符 23"/>
            <p:cNvSpPr/>
            <p:nvPr/>
          </p:nvSpPr>
          <p:spPr>
            <a:xfrm>
              <a:off x="4410000" y="2841840"/>
              <a:ext cx="17845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文本框 5"/>
            <p:cNvSpPr/>
            <p:nvPr/>
          </p:nvSpPr>
          <p:spPr>
            <a:xfrm>
              <a:off x="4556520" y="2841840"/>
              <a:ext cx="14929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 2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文本框 10"/>
          <p:cNvSpPr/>
          <p:nvPr/>
        </p:nvSpPr>
        <p:spPr>
          <a:xfrm>
            <a:off x="2946240" y="2003400"/>
            <a:ext cx="1230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验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6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88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0" name="椭圆 4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1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4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6" name="文本框 99"/>
          <p:cNvSpPr/>
          <p:nvPr/>
        </p:nvSpPr>
        <p:spPr>
          <a:xfrm>
            <a:off x="593640" y="1008000"/>
            <a:ext cx="6699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 60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9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和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"/>
          <p:cNvSpPr/>
          <p:nvPr/>
        </p:nvSpPr>
        <p:spPr>
          <a:xfrm>
            <a:off x="1319040" y="2851200"/>
            <a:ext cx="77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数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8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它比乙数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乙数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3"/>
          <p:cNvSpPr/>
          <p:nvPr/>
        </p:nvSpPr>
        <p:spPr>
          <a:xfrm>
            <a:off x="1933560" y="1685880"/>
            <a:ext cx="3143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7+998=16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5"/>
          <p:cNvSpPr/>
          <p:nvPr/>
        </p:nvSpPr>
        <p:spPr>
          <a:xfrm>
            <a:off x="2279520" y="3683160"/>
            <a:ext cx="31435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85+125=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03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5" name="椭圆 4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6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1" name="文本框 99"/>
          <p:cNvSpPr/>
          <p:nvPr/>
        </p:nvSpPr>
        <p:spPr>
          <a:xfrm>
            <a:off x="365040" y="115092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把下面的算式按照得数的大小，从小到大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5+345    182+558       167+284     216+7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组合 16"/>
          <p:cNvGrpSpPr/>
          <p:nvPr/>
        </p:nvGrpSpPr>
        <p:grpSpPr>
          <a:xfrm>
            <a:off x="440640" y="3697200"/>
            <a:ext cx="8299800" cy="947160"/>
            <a:chOff x="440640" y="3697200"/>
            <a:chExt cx="8299800" cy="947160"/>
          </a:xfrm>
        </p:grpSpPr>
        <p:sp>
          <p:nvSpPr>
            <p:cNvPr id="1213" name="文本框 3"/>
            <p:cNvSpPr/>
            <p:nvPr/>
          </p:nvSpPr>
          <p:spPr>
            <a:xfrm>
              <a:off x="440640" y="3803760"/>
              <a:ext cx="1675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67+284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文本框 5"/>
            <p:cNvSpPr/>
            <p:nvPr/>
          </p:nvSpPr>
          <p:spPr>
            <a:xfrm>
              <a:off x="2665800" y="3872160"/>
              <a:ext cx="1774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95+345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文本框 8"/>
            <p:cNvSpPr/>
            <p:nvPr/>
          </p:nvSpPr>
          <p:spPr>
            <a:xfrm>
              <a:off x="4928760" y="3872160"/>
              <a:ext cx="2072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82+558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文本框 11"/>
            <p:cNvSpPr/>
            <p:nvPr/>
          </p:nvSpPr>
          <p:spPr>
            <a:xfrm>
              <a:off x="7163640" y="3697200"/>
              <a:ext cx="1576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16+7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文本框 13"/>
            <p:cNvSpPr/>
            <p:nvPr/>
          </p:nvSpPr>
          <p:spPr>
            <a:xfrm>
              <a:off x="2187360" y="3872160"/>
              <a:ext cx="3942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文本框 14"/>
            <p:cNvSpPr/>
            <p:nvPr/>
          </p:nvSpPr>
          <p:spPr>
            <a:xfrm>
              <a:off x="4374720" y="3872160"/>
              <a:ext cx="3942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文本框 15"/>
            <p:cNvSpPr/>
            <p:nvPr/>
          </p:nvSpPr>
          <p:spPr>
            <a:xfrm>
              <a:off x="6533280" y="3872160"/>
              <a:ext cx="3942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6:41Z</dcterms:created>
  <dc:creator/>
  <dc:description/>
  <dc:language>en-US</dc:language>
  <cp:lastModifiedBy>万润仪器贸易公司</cp:lastModifiedBy>
  <dcterms:modified xsi:type="dcterms:W3CDTF">2020-08-21T01:20:1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